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E9A0-4D33-4F22-9C81-DD0600A6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381A-F14E-4A7F-B1ED-8693A90F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782C-FF7D-4855-9664-4CDE0C8E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AFE-313D-49A5-BEC5-18516865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1035-B736-4A93-960E-C09529E0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0327-5E9A-43FE-A0B8-2C4B315E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2C8E-4BFF-4198-BC6A-4169A696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36FF-AC75-4C97-9E63-FDE24F31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263A-5879-426C-AEBE-6E2A2801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7BF-70C9-47A4-A390-C6D7AD96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DF93-E328-45C2-87CD-2A7BE925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88AB-24EB-4992-A1E7-BA5F8F97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3FAB-859A-4F32-9826-7B60B516B31B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Dikdörtgen"/>
          <p:cNvSpPr/>
          <p:nvPr/>
        </p:nvSpPr>
        <p:spPr>
          <a:xfrm>
            <a:off x="3583800" y="3286080"/>
            <a:ext cx="50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Calibri"/>
              </a:rPr>
              <a:t>21. Yüzyıl becerileri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468360" y="1274760"/>
            <a:ext cx="914400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0000"/>
                </a:solidFill>
                <a:latin typeface="Calibri"/>
              </a:rPr>
              <a:t>Sosyal ve Kültürlerarası Beceriler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Diğerleriyle uygun ve üretken bir şekilde çalışma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Uygun olduğunda grupların ortak anlayışını ayarlama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Yenilikleri arttırmak ve iş kalitesini yükseltmek üzere 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kültürel   farklılıklar arasındaki boşlukları doldurmak ve 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farklı bakış  açılarını kullanmak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539640" y="1699200"/>
            <a:ext cx="79297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Üretkenlik ve Sorumluluk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İşin zamanında ve kaliteli yapılabilmesi için yüksek standart ve hedefler belirlemek ve bunlara ulaşma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Titiz ve olumlu iş etiği sergilemek (örneğin, işe zamanında gelmek ve güvenilir olmak)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1000080" y="1109520"/>
            <a:ext cx="7358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Liderlik ve Sorumluluk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Diğerlerini belirli bir hedefe yönelik etkilemek ve yönlendirmek üzere bireylerarası problem çözme becerileri kullanma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Ortak bir hedefe ulaşmak üzere diğerlerinin güçlerini düzenlemek,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Dürüst ve etik davranışlar sergileme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Zihninde toplum yararını düşünerek sorumlu davranmak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285840" y="878400"/>
            <a:ext cx="8572320" cy="442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Öğrenme ve Yenilenme Becerileri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0000"/>
                </a:solidFill>
                <a:latin typeface="Calibri"/>
                <a:ea typeface="Calibri"/>
              </a:rPr>
              <a:t>Yaratıcılık ve Yenilenme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Çalışma hayatında orjinalite ve yaratıcılık sergileme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Diğerlerinin işine yarayacak yeni fikirler geliştirmek, uygulamak ve anlatma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Yeni ve farklı bakış açılarına açık ve uyumlu olma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Yeniliğin geliştiği alanlarda yaratıcı fikirlerle somut ve yararlı yardımlarda bulunmak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 Dikdörtgen"/>
          <p:cNvSpPr/>
          <p:nvPr/>
        </p:nvSpPr>
        <p:spPr>
          <a:xfrm>
            <a:off x="214200" y="1268280"/>
            <a:ext cx="8929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tr-TR" sz="3200" spc="-1" strike="noStrike">
                <a:solidFill>
                  <a:srgbClr val="000000"/>
                </a:solidFill>
                <a:latin typeface="Calibri"/>
                <a:ea typeface="Calibri"/>
              </a:rPr>
              <a:t>Eleştirel Düşünme ve Problem Çözme</a:t>
            </a:r>
            <a:r>
              <a:rPr b="1" lang="tr-TR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  <a:ea typeface="Calibri"/>
              </a:rPr>
              <a:t>Anlamaya yönelik doğru akıl yürütme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Karmaşık seçimler yapmak ve kararlar verme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Arial"/>
              </a:rPr>
              <a:t>Sistemlerarası  ilişkileri anlamak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Farklı bakış açılarını netleştirmeye ve daha etkili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çözümler üretmeye yönelik sorular belirlemek ve sorma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Problem çözmek ve soruları yanıtlamak üzere bilgiyi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sınırlandırmak, çözümlemek ve birleştirmek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500040" y="1304640"/>
            <a:ext cx="7786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0000"/>
                </a:solidFill>
                <a:latin typeface="Calibri"/>
                <a:ea typeface="Calibri"/>
              </a:rPr>
              <a:t>İletişim ve İşbirliği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  <a:ea typeface="Calibri"/>
              </a:rPr>
              <a:t>Konuşurken ve yazarken düşünceleri ve fikirleri açık ve etkili bir şekilde birleştirip kullanma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Farklı takımlarda etkin çalışabilme becerisi gösterme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Ortak bir amaca ulaşabilmek için gerekli çabayı gösterecek şekilde esnek ve istekli olma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İşbirliğine dayalı çalışmalar için sorumluluğu 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paylaşmak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694440" y="951840"/>
            <a:ext cx="534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ilgi, Medya ve Teknoloji Becerileri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3 Dikdörtgen"/>
          <p:cNvSpPr/>
          <p:nvPr/>
        </p:nvSpPr>
        <p:spPr>
          <a:xfrm>
            <a:off x="714600" y="1700280"/>
            <a:ext cx="30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0000"/>
                </a:solidFill>
                <a:latin typeface="Calibri"/>
              </a:rPr>
              <a:t>Bilgi Okur-Yazarlığı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11280" y="2202120"/>
            <a:ext cx="79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Problemlerin çözümüne yönelik olarak; bilgiye yeterli ve etkili düzeyde ulaşmak, bilgiyi (eleştirel) ve yeterli düzeyde değerlendirmek, doğru ve yaratıcı bir şekilde kullanma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Bilginin erişimine ve kullanımına yönelik olarak etik ve yasal konularda temel bir anlayışa sahip olmak.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642960" y="732600"/>
            <a:ext cx="7961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Calibri"/>
              </a:rPr>
              <a:t>Medya Okur-Yazarlığı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Medyadaki iletilerin hangi amaçlara yönelik ve hangi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araçları, özellikleri ve yenilikleri kullanarak nasıl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yapılandırıldığını anlamak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İnsanların iletileri nasıl farklı yorumladığını, değer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yargılarının ve bakış açılarının nasıl işe koşulup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koşulmadığını, medyanın inanç ve davranışları nasıl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etkilediğini gözlemek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Bilginin erişimine ve kullanımına yönelik olarak etik ve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yasal konularda temel bir anlayışa sahip olmak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571680" y="117432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Calibri"/>
              </a:rPr>
              <a:t>Bilgi ve İletişim Teknolojileri (ICT) Okur-Yazarlığı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Bilginin ekonomik kullanımına yönelik olarak, bilgiye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erişmek, yönetmek, bütünleştirmek, değerlendirmek ve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yaratmak üzere dijital teknolojileri, iletişim araçlarını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ve/veya ağları uygun kullanmak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Bilgiyi araştırmak, düzenlemek, değerlendirmek ve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paylaşmak üzere teknolojiyi araç olarak kullanmak, ve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bilginin erişimine ve kullanımına yönelik olarak etik ve yasal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konularda temel bir anlayışa sahip olmak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611280" y="1996920"/>
            <a:ext cx="752940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0000"/>
                </a:solidFill>
                <a:latin typeface="Calibri"/>
              </a:rPr>
              <a:t>Esneklik ve Uyum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Farklı rol ve sorumlulukla uyum sağlama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Karmaşık ve önceliklerin değiştiği ortamlarda 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800" spc="-1" strike="noStrike">
                <a:solidFill>
                  <a:srgbClr val="000000"/>
                </a:solidFill>
                <a:latin typeface="Calibri"/>
              </a:rPr>
              <a:t>etkin olarak çalışmak,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2 Dikdörtgen"/>
          <p:cNvSpPr/>
          <p:nvPr/>
        </p:nvSpPr>
        <p:spPr>
          <a:xfrm>
            <a:off x="611280" y="1052640"/>
            <a:ext cx="50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 u="sng">
                <a:solidFill>
                  <a:srgbClr val="000000"/>
                </a:solidFill>
                <a:uFillTx/>
                <a:latin typeface="Arial"/>
              </a:rPr>
              <a:t>Yaşam ve Meslek Becerileri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428760" y="995760"/>
            <a:ext cx="835812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0000"/>
                </a:solidFill>
                <a:latin typeface="Calibri"/>
              </a:rPr>
              <a:t>Girişimcilik ve Öz-Yönetim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Kendi anlayışını ve öğrenme gereksinimlerini gözlemlemek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Uzmanlaşmak üzere temel becerilerin ve/veya öğretim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programının sınırlarını aşarak kendi öğrenme sınırlarını ve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fırsatlarını keşfetmek, genişletmek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Becerilerini profesyonel düzeye yükseltmek üzere girişimde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bulunmak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Başkalarının gözetimi olmaksızın görevleri tanımlamak,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öncelik sırasına koymak ve tamamlamak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Zamanı etkili kullanmak ve iş yükünü idare etmek,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Öğrenmenin yaşamboyu bir süreç olduğuna ilişkin kararlı 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davranışlar sergilemek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8:19:21Z</dcterms:created>
  <dc:creator>VESTEL</dc:creator>
  <dc:description/>
  <dc:language>en-US</dc:language>
  <cp:lastModifiedBy>Admin</cp:lastModifiedBy>
  <dcterms:modified xsi:type="dcterms:W3CDTF">2011-02-01T20:58:09Z</dcterms:modified>
  <cp:revision>5</cp:revision>
  <dc:subject/>
  <dc:title>Slayt 1</dc:title>
</cp:coreProperties>
</file>